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2657-667F-4C76-B884-81BABAE3F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C779-30D2-40ED-A2FA-B070CFF09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dify our second task  from yesterday so that it is now an open t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ork in table groups. Post on chart paper. Gallery walk af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522F-5073-49B1-A79A-E52FF7BFD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6707-B8C5-40C3-882E-D27A9B9AC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6462-F993-454A-9EC2-438B4F1A0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8B61-39A6-4A55-901A-CB5649905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1FDA-6CFD-4268-B37A-83E2FDC1D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3312-1C68-42DC-B120-77BB5BE75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0464-575E-4CCB-9C69-3D1AE019A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AF3-876C-47E1-B662-56F1EFE4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A3E-1079-4935-9229-1DF9608F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BAC-B686-4D21-93D2-CF5CF4FF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D72-1399-4363-A5DE-34782028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CD48-4C5C-4A79-9C5F-F78CEA2F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433F-6712-494C-B213-D0F12B4F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33C0-B9C4-4CC6-851E-6BF7426B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E259-C579-4637-BC4F-E7E1EB02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E0C4-F8D7-4B3E-A3F2-24BD0E26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3B75-57DA-4FF6-8BBE-3A18C314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EB3C-CD00-495C-8A47-38BCF8EE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DA8-2E1A-48B0-84CF-10973D43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0481-986D-418F-AA6B-0438EE20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E622-D2E7-4A78-9B54-75576C77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28B2-5C68-4252-B6B4-684747D7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967D-E2BE-413A-9CF9-FE94A6B3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9897-66C6-419B-8717-0C23F1AD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839-5167-4B54-B830-6945AA58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5F8-1998-4E15-81F3-D25EC914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5F3-F03E-4E37-AC95-EBC46905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1D1-FFE4-41DC-B0E8-739CC13E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068-45A7-417B-BDA7-58D100AE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DB0-6CD1-4582-994F-F3F8755E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5DD-D3FD-45B5-921A-DBED3467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3B87-5F12-44B6-A2A0-A80223F0C81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227A-311A-45DA-AA1D-172CBDDDDD8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859280" cy="3984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533520" y="43434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roportional Reasoning: </a:t>
            </a:r>
            <a:r>
              <a:rPr b="0" lang="en-US" sz="3600" spc="-1" strike="noStrike">
                <a:solidFill>
                  <a:srgbClr val="0d469b"/>
                </a:solidFill>
                <a:latin typeface="Book Antiqua"/>
              </a:rPr>
              <a:t>Focused on Proportional Thinking</a:t>
            </a: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  </a:t>
            </a:r>
            <a:r>
              <a:rPr b="0" lang="en-US" sz="3600" spc="-1" strike="noStrike">
                <a:solidFill>
                  <a:srgbClr val="0d469b"/>
                </a:solidFill>
                <a:latin typeface="Book Antiqua"/>
              </a:rPr>
              <a:t>Day 4</a:t>
            </a:r>
            <a:br>
              <a:rPr sz="48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</a:rPr>
              <a:t>August 19, 2010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</a:rPr>
              <a:t>Paul Alves, Sonia Ellison &amp; Trish Stee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ailsafe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/Pair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failsafe strategy did Dan Meyer use in the development of his ta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ock/Paper/Scisso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 play 10 rounds and track your number of w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the point (# of rounds, # of w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the point (0,0) with your point using a straight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419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5943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6095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of ro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952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of w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1457280" cy="676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057400" y="5562720"/>
            <a:ext cx="1162080" cy="742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8668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ock/Paper/Scisso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in the next 10 rounds at the same rate predict your number of wins.  Plot your prediction on th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another 10 r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your new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your previous point with your new point using a straight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ock/Paper/Scisso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r rate of wins in the first 10 rounds compare to your second set of 10 rou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is reflected in your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the graph look like if your percentage of wins increa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the graph look like if your percentage of wins decrea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ock/Paper/Scisso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the angle between the horizontal axis and the line be greater than 4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is situation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657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5486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209680" y="4191120"/>
            <a:ext cx="221004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4495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5638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jac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s cost $15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 equation to represent the cost to purchase C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will it cost to purchase 10 C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429000" y="3124080"/>
                <a:ext cx="8064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2286000" y="3352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32767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5029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Rectangle 2"/>
              <p:cNvSpPr txBox="1"/>
              <p:nvPr/>
            </p:nvSpPr>
            <p:spPr>
              <a:xfrm>
                <a:off x="3276720" y="4952880"/>
                <a:ext cx="7905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114800" y="5029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0 c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276720" y="5638320"/>
            <a:ext cx="7617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952880" y="518112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Opening the task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p is being planned from Kingston to Toronto. By car it is a 200 km drive and by train the route is 250 km. If the car averages 90 km/h and the train averages 120 km/h, which means of travelling is faster? Show at least two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loud 3"/>
          <p:cNvSpPr/>
          <p:nvPr/>
        </p:nvSpPr>
        <p:spPr>
          <a:xfrm>
            <a:off x="5334120" y="914400"/>
            <a:ext cx="2133360" cy="838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Little Big Leagu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rcRect l="7662" t="8066" r="9866" b="17741"/>
          <a:stretch/>
        </p:blipFill>
        <p:spPr>
          <a:xfrm>
            <a:off x="1143000" y="2057400"/>
            <a:ext cx="6662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Little Big Leagu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If Joe can paint a house in 3 hours and Sam can paint the same house in 5 hours, how long does it take them to do it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th a partner, open up the task identified in the movie clip and identify which of the failsafe strategies you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Trade and Solv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de your open task with another group and solve their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oday’s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open tasks that provide opportunities for all students to complete appropriat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the types of assessment possible with open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tinue active learning/discussion regarding propor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’s consolidat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se sent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What makes an open question valuable is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I would avoid open questions when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A good percentage of open questions would be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09480" y="914400"/>
            <a:ext cx="8077320" cy="5638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4648320" y="9144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609480" y="37339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3352680" y="3276720"/>
            <a:ext cx="2590920" cy="9144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85800" y="990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685800" y="3809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715000" y="990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s/Characteris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705720" y="3809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733920" y="3429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tional Reaso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825720" cy="4572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8320" y="1752480"/>
            <a:ext cx="4038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al Strate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high is the Leaning Tower of Pi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leaning-tower-of-pisa.jpg"/>
          <p:cNvPicPr/>
          <p:nvPr/>
        </p:nvPicPr>
        <p:blipFill>
          <a:blip r:embed="rId1"/>
          <a:stretch/>
        </p:blipFill>
        <p:spPr>
          <a:xfrm>
            <a:off x="2057400" y="2514600"/>
            <a:ext cx="5105520" cy="403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tation to St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sson goal: Determine the measure of an inaccessible height or unknown dimension using proportional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tation to St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three out of the five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: How f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: How high using Shado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: How high using a Metre Sti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: How high using a Mirr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: How high using a Clino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tation to St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Consolidating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you were to measure the height of a light sticking out from a post, which method would you use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17040" y="4419360"/>
            <a:ext cx="2170440" cy="1078200"/>
            <a:chOff x="3317040" y="4419360"/>
            <a:chExt cx="2170440" cy="1078200"/>
          </a:xfrm>
        </p:grpSpPr>
        <p:sp>
          <p:nvSpPr>
            <p:cNvPr id="107" name=""/>
            <p:cNvSpPr/>
            <p:nvPr/>
          </p:nvSpPr>
          <p:spPr>
            <a:xfrm>
              <a:off x="3317040" y="5497560"/>
              <a:ext cx="193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079160" y="4419360"/>
              <a:ext cx="0" cy="105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9160" y="4513320"/>
              <a:ext cx="295560" cy="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36920" y="4438080"/>
              <a:ext cx="246960" cy="168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583880" y="4578840"/>
              <a:ext cx="303840" cy="20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08080" y="4719960"/>
              <a:ext cx="779400" cy="2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LIGHT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Whole Class Discu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as the task “open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was challenging about the ta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type of assessment (for/of/as) opportunities does this task prov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could you collect the assessment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rcRect l="3503" t="32549" r="34275" b="22347"/>
          <a:stretch/>
        </p:blipFill>
        <p:spPr>
          <a:xfrm>
            <a:off x="609480" y="1828800"/>
            <a:ext cx="7848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Steele</cp:lastModifiedBy>
  <dcterms:modified xsi:type="dcterms:W3CDTF">2010-08-19T15:51:47Z</dcterms:modified>
  <cp:revision>199</cp:revision>
  <dc:subject/>
  <dc:title>Slide 1</dc:title>
</cp:coreProperties>
</file>